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drumroll.wav" ContentType="audio/x-wav"/>
  <Override PartName="/ppt/media/image3.jpeg" ContentType="image/jpeg"/>
  <Override PartName="/ppt/media/image19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wind.wav" ContentType="audio/x-wav"/>
  <Override PartName="/ppt/media/image16.jpeg" ContentType="image/jpeg"/>
  <Override PartName="/ppt/media/image15.jpeg" ContentType="image/jpeg"/>
  <Override PartName="/ppt/media/image2.jpeg" ContentType="image/jpeg"/>
  <Override PartName="/ppt/media/push.wav" ContentType="audio/x-wav"/>
  <Override PartName="/ppt/media/laser.wav" ContentType="audio/x-wav"/>
  <Override PartName="/ppt/media/image14.jpeg" ContentType="image/jpeg"/>
  <Override PartName="/ppt/media/coin.wav" ContentType="audio/x-wav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5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D2420-A599-448D-A4F2-E0BACF8AA325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81DF4-3EEE-42B7-9DE4-34EC67BDBAC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56E6-8731-4C4F-B251-A3FE994269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E6FE-2A11-467E-86EB-4F474EDD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6803-2937-4F67-BC42-E8980518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A5CB-D0E5-4E36-8226-0BE6DBA7BF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5AAC4-906E-4102-97C2-C97C780152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F4B0F-44E0-4A0C-97B6-A3AE0F91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CE8DC-9821-4E15-9C89-1718ACAF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88325-09E5-4BB1-9A12-49E74ED3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B1823-73E7-4DAE-ADC0-328C4063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0933E-C1F6-4307-8F70-94B78FED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AF68F-46A7-4D65-8F2E-09C7C8CE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EE13-877C-46C4-B945-F8D53CF3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49AB1-C616-41A9-84F4-AE3DFF63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938C3-F85E-4B6B-9CEF-299D7F9C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B5E32-9871-4AFE-8BFA-14C4E297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46E04-DDC6-4620-8027-5326B6C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2A8D0-EE36-492C-B5E1-9E909523C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78BA-2B26-47E1-91A1-FDE068BC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8965-A295-4724-8861-21745D40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DB70-8A91-45B8-A5D1-0611077D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EC1B-A354-4FFF-A932-93A91ECC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AF0D-6F99-412E-946B-2058200A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3AC0-8918-4AD9-AFE0-F6AE4051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AB6A-97FC-4037-8F09-A09C178B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F02B-A6F6-4967-95D1-CF5A660EB5F9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>
                  <a:gd name="textAreaLeft" fmla="*/ 0 w 535320"/>
                  <a:gd name="textAreaRight" fmla="*/ 535680 w 5353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>
                  <a:gd name="textAreaLeft" fmla="*/ 0 w 1095480"/>
                  <a:gd name="textAreaRight" fmla="*/ 1095840 w 1095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>
                <a:gd name="textAreaLeft" fmla="*/ 0 w 1562400"/>
                <a:gd name="textAreaRight" fmla="*/ 1562760 w 156240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3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23F7D-E56F-4496-B6DE-AE810C81D32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5" Type="http://schemas.openxmlformats.org/officeDocument/2006/relationships/image" Target="../media/image3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6" Type="http://schemas.openxmlformats.org/officeDocument/2006/relationships/image" Target="../media/image11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cus.org/files/images/russia-fla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360036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The Present Day Is Always Tougher In Mother Russi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5105520"/>
            <a:ext cx="64008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6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" y="-304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867280" y="114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3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5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6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0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0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190760" cy="3200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lackadder ITC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lackadder ITC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1447920"/>
            <a:ext cx="4190760" cy="3195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lus/>
    <p:sndAc>
      <p:stSnd>
        <p:snd r:embed="rId4" name="wind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fill="hold">
                      <p:stCondLst>
                        <p:cond delay="indefinite"/>
                      </p:stCondLst>
                      <p:childTnLst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6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6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12193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Only 15% of the urban population breathes clean, safe ai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Factories put most of the toxic substances in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Acid rain from Europe and Siberia has shortened the Siberian forests’ size by an estimated 730,000 hectares</a:t>
            </a: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-1143000" y="6095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 rot="19620000">
            <a:off x="1415520" y="274284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 rot="19500000">
            <a:off x="1407600" y="2741760"/>
            <a:ext cx="64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 rot="19320000">
            <a:off x="3110040" y="27824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2" name="coin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dur="indefinite" fill="hold">
                      <p:stCondLst>
                        <p:cond delay="indefinite"/>
                      </p:stCondLst>
                      <p:childTnLst>
                        <p:par>
                          <p:cTn id="4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371600"/>
            <a:ext cx="82296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Lowest recorded temperature is -93°C (THAT’S REALLY COLD!!!!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Your breath will immeditately freeze in the air in some part of Russia </a:t>
            </a:r>
            <a:r>
              <a:rPr b="0" lang="en-US" sz="2400" spc="-1" strike="noStrike">
                <a:solidFill>
                  <a:srgbClr val="cc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In the winter, some of the land is in total darkness for over six months of the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Capital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Largest City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Area: 17, 075, 400 Square Kilometers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Official Languages: Russian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Government: Federal Republic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esident –Dmitry Medvedev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ime Minister – Vladmir Putin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opulation: 142, 400, 000 (2006 est.</a:t>
            </a:r>
            <a:r>
              <a:rPr b="0" lang="en-US" sz="2400" spc="-1" strike="noStrike">
                <a:solidFill>
                  <a:srgbClr val="ccff66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1920"/>
                <a:tab algn="l" pos="10509120"/>
                <a:tab algn="l" pos="1051236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push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dur="indefinite" fill="hold">
                      <p:stCondLst>
                        <p:cond delay="indefinite"/>
                      </p:stCondLst>
                      <p:childTnLst>
                        <p:par>
                          <p:cTn id="5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dur="indefinite" fill="hold">
                      <p:stCondLst>
                        <p:cond delay="indefinite"/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dur="indefinite" fill="hold">
                      <p:stCondLst>
                        <p:cond delay="indefinite"/>
                      </p:stCondLst>
                      <p:childTnLst>
                        <p:par>
                          <p:cTn id="5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049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Mr. griffith and Mr. O'bri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nformation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s you can see, IT’s ALWAYS tougher in present day Russ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18288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audio isNarration="0">
                    <p:cMediaNode showWhenStopped="1">
                      <p:cTn>
                        <p:stCondLst>
                          <p:cond delay="indefinite"/>
                        </p:stCondLst>
                      </p:cTn>
                      <p:tgtEl>
                        <p:sndTgt r:embed="rId2" name="applause.wav"/>
                      </p:tgtEl>
                    </p:cMediaNode>
                  </p:audio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21T02:33:34Z</dcterms:modified>
  <cp:revision>29</cp:revision>
  <dc:subject/>
  <dc:title>Present Day Russia</dc:title>
</cp:coreProperties>
</file>